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A0B-D497-4F8C-9586-AB75D2A7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75D-2807-4134-A5DC-777B77EE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080-3256-4642-8CD5-AB1330A5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D12-3476-49B7-AB42-C007BB1A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E83-7D27-4B68-9F81-F44F246B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7655-27DA-457F-87D0-8718772E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221-8CB4-4E2E-A28C-BD8A4970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8D5-DCB7-4FC4-A31A-FD2AE271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DE7-8CDB-438E-9C27-EBFD7446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ED3-78EF-4B81-A48E-9AF34F81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325-CA0B-4E2E-8A95-9AC5A198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20A-F6FE-4E14-9817-0A4A10ED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2246-B719-42B2-A9BC-D1F9360A207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0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\\nas\DATA\MMU\1Publishing_service\50YEARS_Anniversary\50YEARS_logos\IITA TAA White Big.png"/>
          <p:cNvPicPr/>
          <p:nvPr/>
        </p:nvPicPr>
        <p:blipFill>
          <a:blip r:embed="rId2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1600200" y="3348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152280" y="642960"/>
            <a:ext cx="883944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INTEGRATING NUTRITION INTO VALUE CHAINS B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nual Review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Agriculture Produ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9 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920"/>
            <a:ext cx="701064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-ACTIVITY2:1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533520"/>
          <a:ext cx="8763120" cy="6124320"/>
        </p:xfrm>
        <a:graphic>
          <a:graphicData uri="http://schemas.openxmlformats.org/drawingml/2006/table">
            <a:tbl>
              <a:tblPr/>
              <a:tblGrid>
                <a:gridCol w="5867280"/>
                <a:gridCol w="2895840"/>
              </a:tblGrid>
              <a:tr h="110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 Enabling farmers’ access to improved inputs (seed and inoculum) and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 DADO/Input Suppliers/IITA/AgrD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1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cation and screening of existing farmer group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2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entation sessions for farmer groups on the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 / DADO/INVC BA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3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ing quantities of seed of different crops/varieties 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 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ing Farmer Organiz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0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4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ing and Distribution of seed (agreeing on the payment modaliti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915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 ACTIVITY 2:4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280" y="685800"/>
          <a:ext cx="8363160" cy="5159520"/>
        </p:xfrm>
        <a:graphic>
          <a:graphicData uri="http://schemas.openxmlformats.org/drawingml/2006/table">
            <a:tbl>
              <a:tblPr/>
              <a:tblGrid>
                <a:gridCol w="6172200"/>
                <a:gridCol w="2190960"/>
              </a:tblGrid>
              <a:tr h="86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2.1  Irrigation and water management technologies and practi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289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ation of irrigable cit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290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tization meetings and identification of farmer 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1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3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staff and farmers on optional irrigation technologies and wate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23760"/>
            <a:ext cx="754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UB ACTIVITY 2:3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685800"/>
          <a:ext cx="8286840" cy="5867280"/>
        </p:xfrm>
        <a:graphic>
          <a:graphicData uri="http://schemas.openxmlformats.org/drawingml/2006/table">
            <a:tbl>
              <a:tblPr/>
              <a:tblGrid>
                <a:gridCol w="5791320"/>
                <a:gridCol w="2495520"/>
              </a:tblGrid>
              <a:tr h="1676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3. Post harvest management (Utilization and storage loss reduc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46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1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of field staff and lead farmers on food processing and utiliz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71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2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on optional post harvest handling techniques and minimum 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3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 and monitoring of optional post harvest handling techniques and minimum 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991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TIVITY 2:2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533520"/>
          <a:ext cx="8763120" cy="5970600"/>
        </p:xfrm>
        <a:graphic>
          <a:graphicData uri="http://schemas.openxmlformats.org/drawingml/2006/table">
            <a:tbl>
              <a:tblPr/>
              <a:tblGrid>
                <a:gridCol w="6048360"/>
                <a:gridCol w="2714760"/>
              </a:tblGrid>
              <a:tr h="862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4.  Provision of  extension services to farmer group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1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farmers on Pre-planting activities and monitoring implementation of these acti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2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emonstration of improved technologies (including identification of plots to mount dem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2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3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farmers on GAP (agronomic practices, postharvest practices, utilization, processing and marketing with emphasis on aflatoxin control and reducing storage loss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4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, technology uptake, germination, crop development and incidences of pests and dis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2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5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6 Harvest and postharvest hand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138240"/>
            <a:ext cx="78868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 rot="1893600">
            <a:off x="-252000" y="2801160"/>
            <a:ext cx="9231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 FOR LISTERN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Chisanga, Genschers (IITA)</cp:lastModifiedBy>
  <cp:lastPrinted>2017-06-28T09:09:24Z</cp:lastPrinted>
  <dcterms:modified xsi:type="dcterms:W3CDTF">2017-06-30T07:16:03Z</dcterms:modified>
  <cp:revision>196</cp:revision>
  <dc:subject/>
  <dc:title>Slide 1</dc:title>
</cp:coreProperties>
</file>